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74E-7BB3-4928-B9A3-1E448470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B74-9E4D-4B37-9A36-C4DA285C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9E7-8119-4613-BAAC-FDEE74FC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42F-908A-4F32-880A-A7A1A884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6A99-CA90-4FB0-9BF9-EF12B847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EA93-8063-4721-AC06-0D42D654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58B6-5CC8-474E-A1AB-D18A1467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F7CB-427A-4141-9CA4-4734A764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53BB-1792-49EC-ACC3-A2D3573C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C5FB-2BFE-4C95-93EF-4346401F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DD22-7BAD-4F3E-8CFC-15932FEA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C48-2E9C-4FC2-819F-0AE0BCE6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C049-56A5-4CD2-BEEE-4E246FBC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CB01-C3E1-47E2-80F6-DD74568E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8640-38AE-4757-804C-C49C58C4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95B5-6259-4CAF-B895-F7BF8C42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1378-E9FB-4602-BA47-CF947808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F30-36F3-4D45-B890-04A430B9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4C8-AE52-4C68-B9C5-1CF1D09D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899-731A-40BB-AA97-F136DC67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AA2-B117-4C75-A49D-F360A27E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86E-B405-4733-86BF-206482D1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2C0-DB4E-41D5-B721-2A3202BA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49E-0D41-43CA-8122-F590A408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CEF9-C9D0-4105-9B4A-B5C3D2B6BE9E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299A-EF4B-4F0C-97A7-CE066CA6077F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r. Popper’s Penguin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y Richard and Florence Atwater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enguins live in Antarctica and the South Pole.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600" y="25146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fac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opinio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does Mrs. Popper  worry about?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14600" y="22860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health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childr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C) money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D) groceries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theater w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r. Popper to take the penguins to perform in?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51460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Regal theat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Broadway theat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C) Benedum Theat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D) Royal Theater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ather penguins watch over their babies eggs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Fact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Opinion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enguins are the cutest birds.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Fac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Opinion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y was Captain Cook interested in the shaving cream on the man’s face?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7920" y="274320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looked like ice crea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looked soft to touch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C) looked like snow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D) looked like  Santa’s bear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are the Popper’s children’s nam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A) Janie and Bob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B) Janie and Bil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C) Jill and Jack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D) Jill and Bill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are some ways Janie and Bill enjoy the penguins?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90920" y="23623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A) watch them spa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B) play fetch with the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C)slide with them on the floo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D) both A and C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f you were Mr. Popper would you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A) make a movie with the penguin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B) take them back to the North Pol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r. Popper’s Penguins was written in: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A) 2011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b) 1999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C) 1983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D) 1938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*How many years ago was that?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7617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did Mr. Popper know so much about the north and south pole?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274320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A)  he visited there when he was you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B) he read books and saw movies about the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C) he got on the interne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was the setting of the story?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A) Waterfor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B)  Stillwat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C) North Pol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D) South Pol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aptain Cook lived in the Popper’s refrigerator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90920" y="23623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A) tru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B) fals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are some things that Captain Cook puts into the icebox?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14600" y="23623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cards, candy &amp; marbl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 dominos, tinfoil, &amp; a ke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C)  crayons, pencils, &amp;         stickers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r. Popper walked his penguin on a leash.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tru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fals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did Mr. Popper wear to look like a penguin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600" y="24382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 white shirt, white tie &amp; black tailco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black &amp; white pajama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C) black pants, white sweater and black scarf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66880" y="609480"/>
            <a:ext cx="6477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theater w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r. Popper and the Penguins supposed to do their performance?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90560" y="27432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A) Broadway Theat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B) Royal Theat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C) Regal Theat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D) Baltimore Theater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eople find penguins amusing..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fac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opinion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Why did Captain Cook get ill?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A) he wasn’t with other penguins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B) he wasn’t getting enough sleep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3ce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he wasn’t used to Stillwater’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1513ce"/>
                </a:solidFill>
                <a:latin typeface="Century Gothic"/>
              </a:rPr>
              <a:t>weather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8:47:00Z</dcterms:created>
  <dc:creator>West Shore  School District</dc:creator>
  <dc:description/>
  <dc:language>en-US</dc:language>
  <cp:lastModifiedBy>West Shore  School District</cp:lastModifiedBy>
  <dcterms:modified xsi:type="dcterms:W3CDTF">2011-11-10T01:49:59Z</dcterms:modified>
  <cp:revision>16</cp:revision>
  <dc:subject/>
  <dc:title>PowerPoint Presentation</dc:title>
</cp:coreProperties>
</file>